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5EA-3B0B-41AC-B6A4-35A41D4C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AD4-0205-490B-92AF-1E81DD45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3C5-BC0A-49EA-9C61-D4FD3CBE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EFA-3EFC-4C2D-8950-D33BBD8F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4A6-6EAD-4C9E-93F3-23EA8D98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AB6-4528-4023-9DBD-5EC69961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BD4-D28B-491A-BB00-05302EB2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2EA-44AC-4AA2-9B66-290EE11E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26C-F123-4267-B232-AED9E02D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DAC-9303-4561-89C4-4D54895C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202-1028-4791-BA5B-DA17ECAC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4E3-DDFC-47F4-94A3-63DF0BB1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D65D-C668-49CD-9001-2B46751DB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e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11872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87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58920" y="0"/>
            <a:ext cx="741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cohol, Drug and Mental Health Comorbidity on the Texas-Mexico Bor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ynn Wallisch and Richard Sp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Texas at Austin, School of Social Work, Addiction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68280"/>
            <a:ext cx="2484360" cy="27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Univers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468360" y="1557360"/>
            <a:ext cx="435600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n a representative sample of adults living in residential households on the Texas-Mexico border, 12.9% had DSM-IV defined problems of alcohol abuse or dependence. Some 5.6% had alcohol problems only, another 2.8% had alcohol problems and also used illicit drugs, and 3.5% had alcohol problems and problems with gambling and/or mental health. This study compares characteristics and treatment attitudes and behaviors among these three groups. Comorbidity is expected to be associated with acculturation; with substance problem severity; and with increased likelihood of seeking servi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3171960" cy="35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3816360" y="1268280"/>
          <a:ext cx="4859280" cy="2713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16360" y="1268280"/>
                    <a:ext cx="485928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851280" y="4008600"/>
          <a:ext cx="4749840" cy="26604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51280" y="4008600"/>
                    <a:ext cx="4749840" cy="26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 txBox="1"/>
          <p:nvPr/>
        </p:nvSpPr>
        <p:spPr>
          <a:xfrm>
            <a:off x="1763640" y="4221000"/>
            <a:ext cx="230508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EXAMPL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213000"/>
            <a:ext cx="2484360" cy="27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Univers"/>
              </a:rPr>
              <a:t>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1:44:39Z</dcterms:created>
  <dc:creator>chj</dc:creator>
  <dc:description/>
  <dc:language>en-US</dc:language>
  <cp:lastModifiedBy>chj</cp:lastModifiedBy>
  <dcterms:modified xsi:type="dcterms:W3CDTF">2008-09-22T01:58:48Z</dcterms:modified>
  <cp:revision>6</cp:revision>
  <dc:subject/>
  <dc:title>幻灯片 1</dc:title>
</cp:coreProperties>
</file>